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EDF-ED60-432A-AED8-82FA0564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A98-14E8-40BF-BACC-F1E4C8D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6B7-1932-46A9-9269-BA1A6C33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38E-A176-40BF-BB96-A533EBFD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B0B-0B8F-4869-8D97-BB462AC4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069-CBB1-43B9-9DFD-2A16A3F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035-EB32-49C3-9642-7525FFA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503-AC6E-41EC-A4EC-4E9DB3A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433-945E-4C8E-9E78-D666E4E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225-A2E4-4671-A697-E33D493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2AC-58EF-408E-85E4-193CE40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230-5179-46F1-AB78-A3BE3A5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C7D-DBE2-4DE0-9DA6-12243D668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4640" y="2286000"/>
            <a:ext cx="584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Concep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1219320" y="1066680"/>
            <a:ext cx="6781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97" r="0" b="64689"/>
          <a:stretch/>
        </p:blipFill>
        <p:spPr>
          <a:xfrm>
            <a:off x="685800" y="4343400"/>
            <a:ext cx="7620120" cy="163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072" r="0" b="8336"/>
          <a:stretch/>
        </p:blipFill>
        <p:spPr>
          <a:xfrm>
            <a:off x="685800" y="137160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1143000" y="2819520"/>
            <a:ext cx="69343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1143000" y="609480"/>
            <a:ext cx="6934320" cy="222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1143000" y="3581280"/>
            <a:ext cx="69343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940" r="0" b="70872"/>
          <a:stretch/>
        </p:blipFill>
        <p:spPr>
          <a:xfrm>
            <a:off x="914400" y="3886200"/>
            <a:ext cx="73915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616" t="2654" r="0" b="68219"/>
          <a:stretch/>
        </p:blipFill>
        <p:spPr>
          <a:xfrm>
            <a:off x="990720" y="4952880"/>
            <a:ext cx="731520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0" b="21142"/>
          <a:stretch/>
        </p:blipFill>
        <p:spPr>
          <a:xfrm>
            <a:off x="914400" y="685800"/>
            <a:ext cx="739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7887" r="1918" b="7948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594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1295280" y="1371600"/>
            <a:ext cx="6705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3848"/>
          <a:stretch/>
        </p:blipFill>
        <p:spPr>
          <a:xfrm>
            <a:off x="990720" y="1120680"/>
            <a:ext cx="72388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219320" y="1752480"/>
            <a:ext cx="6476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914400" y="917640"/>
            <a:ext cx="7010280" cy="40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0332" r="0" b="20528"/>
          <a:stretch/>
        </p:blipFill>
        <p:spPr>
          <a:xfrm>
            <a:off x="914400" y="4386240"/>
            <a:ext cx="7010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1430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371600" y="1447920"/>
            <a:ext cx="63244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523880"/>
            <a:ext cx="61722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371600"/>
            <a:ext cx="6095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5:20Z</dcterms:modified>
  <cp:revision>218</cp:revision>
  <dc:subject/>
  <dc:title>Slide 1</dc:title>
</cp:coreProperties>
</file>